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1DF-8037-410F-BE73-84DA7EDB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FF6-FEA5-4AA6-9711-ABED5CF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E8B-72DD-4C36-B188-F8FDF13C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C06-8388-4C96-BC82-34E72D0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234-AEF0-49C8-BFC6-81FF2FF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F7E-DE01-4B23-AC28-4879784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38E-E291-4DF8-A47B-582FFE33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645-E97A-4FC6-A2C1-8A7C918F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00B-AA23-474D-A81A-1FAC4182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B37-CB8D-4A54-BDC8-92EB1F2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FBA-1A85-47C9-9111-BAD1348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B7C-D7F8-4B81-A123-4B2E0E8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18F-5A10-48FB-BCD5-442CEA6D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o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instrument that measures the tem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th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309760" cy="18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4572000"/>
            <a:ext cx="3920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562720" y="4114800"/>
            <a:ext cx="15127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1297080" cy="195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733920" y="4952880"/>
            <a:ext cx="14144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used in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: liquid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Mer cu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306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46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flow of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re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dra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cin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Greatly inter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Awes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Fasc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Fas cin at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803600" cy="1949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1673280" cy="266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482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75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not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rance or dazed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Dazed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no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hyp no 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1907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2-17T16:52:09Z</dcterms:modified>
  <cp:revision>5</cp:revision>
  <dc:subject/>
  <dc:title>PowerPoint Presentation</dc:title>
</cp:coreProperties>
</file>